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209-2A27-4C24-B4B7-00CFF26A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EFA-93CA-4284-BA54-311B1382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1DE-4C06-4D50-9B5E-D536932B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999-A97E-463A-92FD-C29E4877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4F2-3C31-4C45-AECD-37E1D32D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668-804E-4D0D-BBF8-FC650E6A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D6F-6200-4E36-A79B-9D2A483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FF9-CB91-4595-AC2C-5AABD682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CBD-CD92-42AB-B0CD-DCC40167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4D5-34A3-460B-B59F-C9497F70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634-0BE5-4EDD-BE39-FD8BCCE6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F73-DB61-4B18-B0BE-EEE0B8D8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3B7B-853B-4811-8E79-1B0ED719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E648-1AED-4369-861F-DE974C97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C444-B318-48AF-B8F6-76DFF9C9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A264-E4FF-46A6-9AA2-BC6E8421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603F-BCD1-4FCA-9D2A-135ACE03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9631-154F-41D6-9741-3C1D7C0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2FF2-5009-4FD9-AF34-1955A091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3DCB-3F7C-494B-B6EF-43F56919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7B88-EFB4-46F5-BD01-848D7690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25E-5274-4921-9E17-1BD6346B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CA81-5AB7-48A3-9A96-C9A9D0AE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E171-E06C-429D-9A1A-DE342A76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EF7AE-0261-4E20-AA6F-5FEB5E36E82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146B6-4E36-432D-972C-A7A08B38F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949480"/>
            <a:ext cx="860904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РИС РВ ГИБДД МВД России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39640" y="5427720"/>
            <a:ext cx="9360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4586"/>
                </a:solidFill>
                <a:latin typeface="Constantia"/>
              </a:rPr>
              <a:t>Технология внедрения, обновления версий и технической поддерж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539640" y="2843280"/>
            <a:ext cx="9360000" cy="144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800360" y="1979640"/>
            <a:ext cx="6662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586"/>
                </a:solidFill>
                <a:latin typeface="Constantia"/>
              </a:rPr>
              <a:t>СТРАС ГИБДД Р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1880" y="233316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Технология внедрения ТРИС Р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Обновление версий ТРИС Р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Организация технической поддержки ТРИС Р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4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3333"/>
                </a:solidFill>
                <a:uFillTx/>
                <a:latin typeface="Constantia"/>
              </a:rPr>
              <a:t>Технология внедрения ТРИС Р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39640" y="1889280"/>
            <a:ext cx="918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ланирование потоков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вичная настройка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Выгрузка информации из эксплуатируемой И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Настройка конвертирования загружаемых данных. Пробные загрузки данных в ТРИС Р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вичная загрузка данных в ТРИС РВ. Фиксация точки актуальности дан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Организация регулярного пополнения данных ТРИС РВ по данным эксплуатируем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Настройка взаимодействия ТРИС РВ с другими ИС региона. Настройка «внутренних» потоков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еключение потоков информации «внешним» потребителям на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Настройка ТРИС РВ для эксплуатации в подразделениях ГИБД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евод УГИБДД на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евод одного подразделения ГИБДД на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Окончательная настройка ТРИС РВ по результатам внедрения в одном подраздел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оэтапный перевод подразделений на работу с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"/>
          <p:cNvSpPr/>
          <p:nvPr/>
        </p:nvSpPr>
        <p:spPr>
          <a:xfrm>
            <a:off x="1800360" y="360360"/>
            <a:ext cx="7777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3333"/>
                </a:solidFill>
                <a:uFillTx/>
                <a:latin typeface="Constantia"/>
              </a:rPr>
              <a:t>Обновление версий ТРИС Р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539640" y="1889280"/>
            <a:ext cx="918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Состав пакета обно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Файл </a:t>
            </a:r>
            <a:r>
              <a:rPr b="1" i="1" lang="en-US" sz="2400" spc="-1" strike="noStrike">
                <a:solidFill>
                  <a:srgbClr val="4c4c4c"/>
                </a:solidFill>
                <a:latin typeface="Arial"/>
              </a:rPr>
              <a:t>ReadMe.doc</a:t>
            </a: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Обновление серверной част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Проверка возможности обно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Загрузка серверных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Сборка серверной част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Загрузка изменившихся справочных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Создание новых параметров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Преобразование и переиндексация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Протокол обновления серверной части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Обновление клиентской части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2"/>
          <p:cNvSpPr/>
          <p:nvPr/>
        </p:nvSpPr>
        <p:spPr>
          <a:xfrm>
            <a:off x="1800360" y="360360"/>
            <a:ext cx="7777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рганизация технической поддержки ТРИС Р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942840" y="2529000"/>
            <a:ext cx="506160" cy="1298160"/>
            <a:chOff x="942840" y="2529000"/>
            <a:chExt cx="506160" cy="1298160"/>
          </a:xfrm>
        </p:grpSpPr>
        <p:sp>
          <p:nvSpPr>
            <p:cNvPr id="312" name="AutoShape 4"/>
            <p:cNvSpPr/>
            <p:nvPr/>
          </p:nvSpPr>
          <p:spPr>
            <a:xfrm>
              <a:off x="972720" y="252900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5"/>
            <p:cNvSpPr/>
            <p:nvPr/>
          </p:nvSpPr>
          <p:spPr>
            <a:xfrm>
              <a:off x="1186560" y="304740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6"/>
            <p:cNvSpPr/>
            <p:nvPr/>
          </p:nvSpPr>
          <p:spPr>
            <a:xfrm>
              <a:off x="947160" y="317880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7"/>
            <p:cNvSpPr/>
            <p:nvPr/>
          </p:nvSpPr>
          <p:spPr>
            <a:xfrm flipH="1">
              <a:off x="942840" y="356580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8"/>
            <p:cNvSpPr/>
            <p:nvPr/>
          </p:nvSpPr>
          <p:spPr>
            <a:xfrm flipH="1" flipV="1">
              <a:off x="1180440" y="3559320"/>
              <a:ext cx="2484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Вертикальный свиток 3"/>
          <p:cNvSpPr/>
          <p:nvPr/>
        </p:nvSpPr>
        <p:spPr>
          <a:xfrm>
            <a:off x="1509840" y="4851360"/>
            <a:ext cx="2879640" cy="1365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Задача по настройке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Вертикальный свиток 19"/>
          <p:cNvSpPr/>
          <p:nvPr/>
        </p:nvSpPr>
        <p:spPr>
          <a:xfrm>
            <a:off x="4324320" y="4853160"/>
            <a:ext cx="2879640" cy="1365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Задача по доработке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Вертикальный свиток 20"/>
          <p:cNvSpPr/>
          <p:nvPr/>
        </p:nvSpPr>
        <p:spPr>
          <a:xfrm>
            <a:off x="7104240" y="4842000"/>
            <a:ext cx="2881080" cy="1365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Вертикальный свиток 21"/>
          <p:cNvSpPr/>
          <p:nvPr/>
        </p:nvSpPr>
        <p:spPr>
          <a:xfrm>
            <a:off x="4389480" y="2195640"/>
            <a:ext cx="2879640" cy="1365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Обра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Штриховая стрелка вправо 4"/>
          <p:cNvSpPr/>
          <p:nvPr/>
        </p:nvSpPr>
        <p:spPr>
          <a:xfrm rot="8707800">
            <a:off x="2811240" y="3771720"/>
            <a:ext cx="1728720" cy="806400"/>
          </a:xfrm>
          <a:custGeom>
            <a:avLst/>
            <a:gdLst/>
            <a:ahLst/>
            <a:rect l="l" t="t" r="r" b="b"/>
            <a:pathLst>
              <a:path w="1728787" h="806450">
                <a:moveTo>
                  <a:pt x="0" y="201613"/>
                </a:moveTo>
                <a:lnTo>
                  <a:pt x="25202" y="201613"/>
                </a:lnTo>
                <a:lnTo>
                  <a:pt x="25202" y="604838"/>
                </a:lnTo>
                <a:lnTo>
                  <a:pt x="0" y="604838"/>
                </a:lnTo>
                <a:lnTo>
                  <a:pt x="0" y="201613"/>
                </a:lnTo>
                <a:close/>
                <a:moveTo>
                  <a:pt x="50403" y="201613"/>
                </a:moveTo>
                <a:lnTo>
                  <a:pt x="100806" y="201613"/>
                </a:lnTo>
                <a:lnTo>
                  <a:pt x="100806" y="604838"/>
                </a:lnTo>
                <a:lnTo>
                  <a:pt x="50403" y="604838"/>
                </a:lnTo>
                <a:lnTo>
                  <a:pt x="50403" y="201613"/>
                </a:lnTo>
                <a:close/>
                <a:moveTo>
                  <a:pt x="126008" y="201613"/>
                </a:moveTo>
                <a:lnTo>
                  <a:pt x="1325562" y="201613"/>
                </a:lnTo>
                <a:lnTo>
                  <a:pt x="1325562" y="0"/>
                </a:lnTo>
                <a:lnTo>
                  <a:pt x="1728787" y="403225"/>
                </a:lnTo>
                <a:lnTo>
                  <a:pt x="1325562" y="806450"/>
                </a:lnTo>
                <a:lnTo>
                  <a:pt x="1325562" y="604838"/>
                </a:lnTo>
                <a:lnTo>
                  <a:pt x="126008" y="604838"/>
                </a:lnTo>
                <a:lnTo>
                  <a:pt x="126008" y="201613"/>
                </a:lnTo>
                <a:close/>
              </a:path>
            </a:pathLst>
          </a:cu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Штриховая стрелка вправо 23"/>
          <p:cNvSpPr/>
          <p:nvPr/>
        </p:nvSpPr>
        <p:spPr>
          <a:xfrm rot="5400000">
            <a:off x="5246280" y="3768480"/>
            <a:ext cx="1165320" cy="806760"/>
          </a:xfrm>
          <a:custGeom>
            <a:avLst/>
            <a:gdLst/>
            <a:ahLst/>
            <a:rect l="l" t="t" r="r" b="b"/>
            <a:pathLst>
              <a:path w="1165225" h="806450">
                <a:moveTo>
                  <a:pt x="0" y="201613"/>
                </a:moveTo>
                <a:lnTo>
                  <a:pt x="25202" y="201613"/>
                </a:lnTo>
                <a:lnTo>
                  <a:pt x="25202" y="604838"/>
                </a:lnTo>
                <a:lnTo>
                  <a:pt x="0" y="604838"/>
                </a:lnTo>
                <a:lnTo>
                  <a:pt x="0" y="201613"/>
                </a:lnTo>
                <a:close/>
                <a:moveTo>
                  <a:pt x="50403" y="201613"/>
                </a:moveTo>
                <a:lnTo>
                  <a:pt x="100806" y="201613"/>
                </a:lnTo>
                <a:lnTo>
                  <a:pt x="100806" y="604838"/>
                </a:lnTo>
                <a:lnTo>
                  <a:pt x="50403" y="604838"/>
                </a:lnTo>
                <a:lnTo>
                  <a:pt x="50403" y="201613"/>
                </a:lnTo>
                <a:close/>
                <a:moveTo>
                  <a:pt x="126008" y="201613"/>
                </a:moveTo>
                <a:lnTo>
                  <a:pt x="762000" y="201613"/>
                </a:lnTo>
                <a:lnTo>
                  <a:pt x="762000" y="0"/>
                </a:lnTo>
                <a:lnTo>
                  <a:pt x="1165225" y="403225"/>
                </a:lnTo>
                <a:lnTo>
                  <a:pt x="762000" y="806450"/>
                </a:lnTo>
                <a:lnTo>
                  <a:pt x="762000" y="604838"/>
                </a:lnTo>
                <a:lnTo>
                  <a:pt x="126008" y="604838"/>
                </a:lnTo>
                <a:lnTo>
                  <a:pt x="126008" y="201613"/>
                </a:lnTo>
                <a:close/>
              </a:path>
            </a:pathLst>
          </a:cu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Штриховая стрелка вправо 24"/>
          <p:cNvSpPr/>
          <p:nvPr/>
        </p:nvSpPr>
        <p:spPr>
          <a:xfrm rot="2178000">
            <a:off x="7110360" y="3650760"/>
            <a:ext cx="1806480" cy="806760"/>
          </a:xfrm>
          <a:custGeom>
            <a:avLst/>
            <a:gdLst/>
            <a:ahLst/>
            <a:rect l="l" t="t" r="r" b="b"/>
            <a:pathLst>
              <a:path w="1806575" h="806450">
                <a:moveTo>
                  <a:pt x="0" y="201613"/>
                </a:moveTo>
                <a:lnTo>
                  <a:pt x="25202" y="201613"/>
                </a:lnTo>
                <a:lnTo>
                  <a:pt x="25202" y="604838"/>
                </a:lnTo>
                <a:lnTo>
                  <a:pt x="0" y="604838"/>
                </a:lnTo>
                <a:lnTo>
                  <a:pt x="0" y="201613"/>
                </a:lnTo>
                <a:close/>
                <a:moveTo>
                  <a:pt x="50403" y="201613"/>
                </a:moveTo>
                <a:lnTo>
                  <a:pt x="100806" y="201613"/>
                </a:lnTo>
                <a:lnTo>
                  <a:pt x="100806" y="604838"/>
                </a:lnTo>
                <a:lnTo>
                  <a:pt x="50403" y="604838"/>
                </a:lnTo>
                <a:lnTo>
                  <a:pt x="50403" y="201613"/>
                </a:lnTo>
                <a:close/>
                <a:moveTo>
                  <a:pt x="126008" y="201613"/>
                </a:moveTo>
                <a:lnTo>
                  <a:pt x="1403350" y="201613"/>
                </a:lnTo>
                <a:lnTo>
                  <a:pt x="1403350" y="0"/>
                </a:lnTo>
                <a:lnTo>
                  <a:pt x="1806575" y="403225"/>
                </a:lnTo>
                <a:lnTo>
                  <a:pt x="1403350" y="806450"/>
                </a:lnTo>
                <a:lnTo>
                  <a:pt x="1403350" y="604838"/>
                </a:lnTo>
                <a:lnTo>
                  <a:pt x="126008" y="604838"/>
                </a:lnTo>
                <a:lnTo>
                  <a:pt x="126008" y="201613"/>
                </a:lnTo>
                <a:close/>
              </a:path>
            </a:pathLst>
          </a:cu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319640" y="6912000"/>
            <a:ext cx="5257800" cy="4683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Очередная версия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низ 6"/>
          <p:cNvSpPr/>
          <p:nvPr/>
        </p:nvSpPr>
        <p:spPr>
          <a:xfrm>
            <a:off x="5184720" y="6278400"/>
            <a:ext cx="644760" cy="633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трелка вниз 27"/>
          <p:cNvSpPr/>
          <p:nvPr/>
        </p:nvSpPr>
        <p:spPr>
          <a:xfrm>
            <a:off x="8164440" y="6315120"/>
            <a:ext cx="646200" cy="635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17"/>
          <p:cNvSpPr/>
          <p:nvPr/>
        </p:nvSpPr>
        <p:spPr>
          <a:xfrm>
            <a:off x="1800360" y="2878200"/>
            <a:ext cx="2589120" cy="428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трелка углом вверх 29"/>
          <p:cNvSpPr/>
          <p:nvPr/>
        </p:nvSpPr>
        <p:spPr>
          <a:xfrm flipH="1">
            <a:off x="374760" y="4054320"/>
            <a:ext cx="3657600" cy="3326040"/>
          </a:xfrm>
          <a:custGeom>
            <a:avLst/>
            <a:gdLst/>
            <a:ahLst/>
            <a:rect l="l" t="t" r="r" b="b"/>
            <a:pathLst>
              <a:path w="3657600" h="3325813">
                <a:moveTo>
                  <a:pt x="0" y="2853980"/>
                </a:moveTo>
                <a:lnTo>
                  <a:pt x="2913699" y="2853980"/>
                </a:lnTo>
                <a:lnTo>
                  <a:pt x="2913699" y="908313"/>
                </a:lnTo>
                <a:lnTo>
                  <a:pt x="2641631" y="908313"/>
                </a:lnTo>
                <a:lnTo>
                  <a:pt x="3149615" y="0"/>
                </a:lnTo>
                <a:lnTo>
                  <a:pt x="3657600" y="908313"/>
                </a:lnTo>
                <a:lnTo>
                  <a:pt x="3385532" y="908313"/>
                </a:lnTo>
                <a:lnTo>
                  <a:pt x="3385532" y="3325813"/>
                </a:lnTo>
                <a:lnTo>
                  <a:pt x="0" y="3325813"/>
                </a:lnTo>
                <a:lnTo>
                  <a:pt x="0" y="285398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33"/>
          <p:cNvSpPr/>
          <p:nvPr/>
        </p:nvSpPr>
        <p:spPr>
          <a:xfrm rot="14221800">
            <a:off x="1252800" y="3781800"/>
            <a:ext cx="1692360" cy="61416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27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Виктор Эдуардович Морозов</cp:lastModifiedBy>
  <dcterms:modified xsi:type="dcterms:W3CDTF">2013-05-21T08:58:31Z</dcterms:modified>
  <cp:revision>235</cp:revision>
  <dc:subject/>
  <dc:title>Презентация нового продукта</dc:title>
</cp:coreProperties>
</file>